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9C8-D67A-46BD-B01E-A7B5C8BA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283-54C1-4BCD-A296-BBE3C05D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036-5B62-4043-9538-0CC3A43C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C19-B56F-49B8-921A-22F3F313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F43-5935-42EF-A055-63ED423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F1E-2DA5-41EF-9368-C206B539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6C0-2C02-40E6-84EF-3807D34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A6C-C9A0-4B4E-9D75-28C9C41E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BB9-BAD7-4DDB-BC12-7575308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5C0-AFE3-475A-B107-9FCA71D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141-740B-487D-A1E4-7D5EF2B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492-B82F-412C-A3C5-102116F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B6BB-1204-48FF-AEE5-8BA6C5898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Las comidas por el desayuno, el amuerzo, la cena y el pas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20955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Anthony Nava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933720" cy="3238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05520" y="4648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e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124080" cy="281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4724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 gusta el Cheerios. Es muy bu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51055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! Cheerios es muy feo! El Mini Wheats es el cereal bu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057400" y="41911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say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467160" cy="230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7400" y="36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095560" cy="180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3657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j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91320" y="1447920"/>
            <a:ext cx="2361960" cy="1447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6667" t="4449" r="5002" b="2220"/>
          <a:stretch/>
        </p:blipFill>
        <p:spPr>
          <a:xfrm>
            <a:off x="5867280" y="3124080"/>
            <a:ext cx="2438640" cy="1932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992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rcRect l="2284" t="9553" r="1717" b="0"/>
          <a:stretch/>
        </p:blipFill>
        <p:spPr>
          <a:xfrm>
            <a:off x="762120" y="4114800"/>
            <a:ext cx="2133360" cy="1924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6216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ugo de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048120" y="3429000"/>
            <a:ext cx="30859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Amuer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600" t="0" r="3165" b="0"/>
          <a:stretch/>
        </p:blipFill>
        <p:spPr>
          <a:xfrm>
            <a:off x="762120" y="838080"/>
            <a:ext cx="1523880" cy="431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ca-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38280" y="1295280"/>
            <a:ext cx="3200400" cy="2129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3828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queso a la par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1905120" cy="1199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2514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edos de 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15000" y="3200400"/>
            <a:ext cx="2990880" cy="2884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4008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andw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362320" y="3790800"/>
            <a:ext cx="3066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2819520" cy="2219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3505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hamburguesa con qu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3457440" cy="2305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76720" y="35812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opa de p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rcRect l="0" t="18670" r="1335" b="12006"/>
          <a:stretch/>
        </p:blipFill>
        <p:spPr>
          <a:xfrm>
            <a:off x="4114800" y="441972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343400" y="6324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58000" y="457200"/>
            <a:ext cx="214308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629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r. Pe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p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076480" cy="335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4724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raíz del flotador de cer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467080" cy="2324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helado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pas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934320" y="3809880"/>
            <a:ext cx="1855800" cy="2438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62520" y="3581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brow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809880" y="1676520"/>
            <a:ext cx="228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ed for Ashland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Rousseau’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Nava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http://www.reddi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8111" t="5914" r="8111" b="13300"/>
          <a:stretch/>
        </p:blipFill>
        <p:spPr>
          <a:xfrm>
            <a:off x="609480" y="3352680"/>
            <a:ext cx="2362320" cy="312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2520" y="3733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GAG IS BAD! NOT INTENDED FOR THE 9G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670" t="28669" r="28335" b="28669"/>
          <a:stretch/>
        </p:blipFill>
        <p:spPr>
          <a:xfrm>
            <a:off x="4724280" y="47242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44298" r="0" b="46478"/>
          <a:stretch/>
        </p:blipFill>
        <p:spPr>
          <a:xfrm rot="1915200">
            <a:off x="3809520" y="5333760"/>
            <a:ext cx="37148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33:00Z</dcterms:created>
  <dc:creator>navarroant</dc:creator>
  <dc:description/>
  <dc:language>en-US</dc:language>
  <cp:lastModifiedBy>navarroant</cp:lastModifiedBy>
  <dcterms:modified xsi:type="dcterms:W3CDTF">2012-04-05T17:06:40Z</dcterms:modified>
  <cp:revision>5</cp:revision>
  <dc:subject/>
  <dc:title>Las Comidas</dc:title>
</cp:coreProperties>
</file>